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F5C-A4A4-465B-9D56-5F6B10FF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77F-3EF2-4CA7-8C03-A8A8B3A0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A56DE-725C-445A-B82F-69D4E37C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0C74D-72F2-4049-9212-E85A8D8D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D1C38-7EB6-4EB9-8DF1-E5040625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9CDDF-B660-4C6A-9C3C-7A1308BC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4E95A-4D77-4EB4-90CE-63477635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8D7F1-EE80-4A8C-A1EF-4B53BCB0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48A18-B1E0-4D18-88CB-03CC1D74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793BC-EA03-4391-A725-77C03FCC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251FD-1724-421B-9EE1-5A6374DE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F34-6FC2-4BC1-9A24-8063D7E9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CAB-7191-40C2-B696-776BAED0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7CD0-6771-4D2C-B227-959869B8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1AB9-B3FD-4B5E-866B-2817E4EA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9BC5-046A-4C68-A207-5FCBF1C5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06D4-6DF9-445E-8961-A7F7074B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055B-6FB8-444C-B87E-892D1745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F202-9FF6-4715-86A4-AB2AA510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DE41-938C-462F-849D-44235F9F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BE9-C649-4BB1-ABA1-02AE3DB6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B05E-B602-4D50-A56F-DAD51999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6BA1-6608-4CC0-A327-D5EDF6A0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56C2-E334-4D3F-AF52-BD2660EF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1BD9-DFAB-4578-8625-02163F69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36CF-FFE8-44D9-A35A-4E2015AF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6EDC-1BAF-401F-A425-9E8EA1A0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DEA9D-04FF-4D04-A44B-8A174A2B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D057-1046-44D2-844E-D614BD1A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25BD2-535C-4913-9442-2C7DBEC0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27CC-11B2-419E-BBB4-A5427FC6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4E7-E1E9-42BF-821B-EF9037F2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201E8-264B-4524-A5E2-34C9BD63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8F53-3A4E-4340-8E3B-0357A7CF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3ED1-4122-4BA7-92B1-47E5E4DD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A2BC-CE80-4D9C-ACE5-1E51C070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2C826-2E56-48F8-9110-0A07574C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B8F12-6A51-4D56-ADE6-C1863974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493CD-8038-4785-B502-B279F085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FBAAA-C2B0-48B0-9305-603B3974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DDE72-930B-40CC-B08A-C4C80843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6664B-2158-44E8-B657-5174A646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EF1-151F-441D-AA81-F154169C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17BD2-8459-49EA-A372-415F8B4A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AF0BC-54C1-453E-90E5-009BAAB0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57A1D-C5EF-4C71-8C36-5CE8BA82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5EDE1-F3C5-4567-BAB0-CD081938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0288F-95E5-472E-A2A7-3C8C3807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1BAF-457A-41FB-B98E-1F633114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13E41-D040-45FF-89E2-2D8E89F9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92442-B8BA-4AD0-BFEC-CD851A07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0614D-0265-4C4E-A297-F87DFCF1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DE3E6-F70C-45FF-BD51-7D8528A2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DB0-105F-4CE6-9D1D-BEDC04DB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288F3-4F6B-4541-BF56-AB827E3C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24C0B-5671-4FD8-BC55-38DDC882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E0BC8-F5EC-4FBC-8EC3-6884781E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CEEAC-946D-47D8-8224-C98755AE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0A01B-F931-42DC-A242-28E4ACA2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BAC0D-2FD2-4B59-B923-0682524C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771CE-2B89-4F18-8534-0EAC3B77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A1F5B-1F70-4B94-9F58-C493B6F4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1EB5A-E1F9-4C36-807D-2CA515CE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EABF4-A91E-48AE-8D3B-393DC2F7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23E-F2F3-4EF9-B54A-AB3030E2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C96BA-BB55-4A21-B830-A653F665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B7003-3F4B-430C-97AD-3F83D870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CA101-365A-452C-BAD5-437B9BC5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F826C-02C5-48DC-87EE-F6FEB114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1036A-1400-433D-8650-AFE45EA5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F4FAF-8445-4E7A-A57D-6F4DC69D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DD0F9-07EB-4C37-9C0C-EB33EB39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4749B-AEB2-4F40-A649-77583CC4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69217-CFD3-4584-9D00-1F659BAE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5F5D4-EB06-4424-A728-423CBCD0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9CB-4832-4EEF-A59C-3718365D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19040-0E5C-41ED-ADFD-A7890823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65104-2B3E-4123-930E-4AFC5D27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3488D-9A1C-4CAD-93F2-0A1153EC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92D20-99CD-407C-8C82-CBD2E543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51036-2154-4FC1-BA2A-743E2D0A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AB159-AAC0-4060-AFAE-0909F307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BB3F5-9AB2-4FFC-AD51-06570E1A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8E87C-9DA0-435F-AEDD-22827684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2D223-1919-44B4-8CCB-D858A574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512C4-FCAD-4656-949D-36BEC726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EDF-825B-4FF5-BE91-300BB21F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DBAFE-3C7F-4878-A631-D034AE30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307CF-1FEE-4031-9161-00FEFC3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686A3-025D-44C9-8BEA-0B3A9F4C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0EF23-C3F7-41FA-BCD8-4598F9EF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AD0E6-38E2-4E28-AA1A-A1B6845E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D23C5-46CA-47D7-8AE7-6578E964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98BAF-2FBB-4CA7-9BE7-C511FB22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13849-76DB-4F20-B665-0418111B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028A1-71D7-4E70-9D3C-6B279867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5E0DF-2270-41CB-9087-66D6C8DC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97D-2F0F-4E8F-AEA6-296EECFC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55B6F-D48C-4668-97C9-2E4E29CA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E800C-DFF9-420F-84E4-177EEBFA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2F9BB-60D7-490A-BFE5-41F10877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2C6C1-AC70-4AFA-B71F-8791C74D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805B3-0D09-475A-BC39-9C36D3E6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0927D-4780-4420-B60E-3669C338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DE820-02F8-4363-AE02-18E55B16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3A885-3357-4545-8143-A05A8416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2B221-AB02-4908-82E1-22730798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11E10-0867-41CB-98B7-9FF524FF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3E77B-A6C0-4669-906B-B8CB5D4CD214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6AA8E-0FCA-4DF1-A523-5C770E53F048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F5350-346E-4CE9-AD06-CFDA3720D561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7BD9E-BA49-492A-9B83-C801D45243E3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1F594-1C76-4D04-8AAB-F1BDCD823472}" type="datetime">
              <a:rPr b="1" lang="en-US" sz="1100" spc="-1" strike="noStrike">
                <a:solidFill>
                  <a:srgbClr val="ffffff"/>
                </a:solidFill>
                <a:latin typeface="Calisto MT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C77F4-B1EF-4E6A-8BE1-EAD0231C9AD9}" type="slidenum">
              <a:rPr b="1" lang="en-US" sz="11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BF5D0-D2EE-4064-8F11-8EA5D53E0EF0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7CDC0-B9EF-49CC-B0B3-3D6DDA595692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E9958-BED7-4832-BF67-0F82D0D7450E}" type="datetime">
              <a:rPr b="1" lang="en-US" sz="1100" spc="-1" strike="noStrike">
                <a:solidFill>
                  <a:srgbClr val="ffffff"/>
                </a:solidFill>
                <a:latin typeface="Calisto MT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1C0E1-42B0-4EB6-ABF5-EADE4AF536A4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0F4EA-EFF9-4458-B3A7-3E235A62FC5B}" type="datetime">
              <a:rPr b="1" lang="en-US" sz="1100" spc="-1" strike="noStrike">
                <a:solidFill>
                  <a:srgbClr val="ffffff"/>
                </a:solidFill>
                <a:latin typeface="Calisto MT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C72C2-650B-43CE-BC24-BE9B5BD060A8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560C0-3884-4B1B-A7F9-F27C949CBF8A}" type="datetime">
              <a:rPr b="1" lang="en-US" sz="1100" spc="-1" strike="noStrike">
                <a:solidFill>
                  <a:srgbClr val="ffffff"/>
                </a:solidFill>
                <a:latin typeface="Calisto MT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C8A1F-273C-4E9C-B399-9515B90FC2A2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8AED4-BA31-486B-9534-D2D60C7B0EB6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14BCC-DE9E-4E52-8CC3-43631F64DF4B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A117B-6923-480A-BDDF-DD155284BE6D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F6BAF-53DF-4067-911C-1364D83C68B5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8160" cy="1600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Poetry Lesson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2819520"/>
            <a:ext cx="8228160" cy="274320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dgar Allan Poe: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The Raven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nnabel Lee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obert Frost: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othing Gold Can Stay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Mending Wall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topping by Woods on a Snowy Evening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3" name="TextBox 6"/>
          <p:cNvSpPr/>
          <p:nvPr/>
        </p:nvSpPr>
        <p:spPr>
          <a:xfrm>
            <a:off x="3520440" y="60958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f4c73"/>
                </a:solidFill>
                <a:latin typeface="Calisto MT"/>
              </a:rPr>
              <a:t>Mrs. Roun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f4c73"/>
                </a:solidFill>
                <a:latin typeface="Calisto MT"/>
              </a:rPr>
              <a:t>Quest: Poetry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The End! </a:t>
            </a:r>
            <a:r>
              <a:rPr b="0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Edgar Allan Po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75" name="HomeFolders:TeachersA-F:Angela_Roundy:Desktop:Poe and Frost  Poem PowerPoint:Poe and Frost Videos:Edgar Allan Poe Biography.3gp" descr="/Network/Servers/crms-1.leanderisd.org/HomeFolders/TeachersA-F/Angela_Roundy/Desktop/Poe and Frost  Poem PowerPoint/Poe and Frost Videos/Edgar Allan Poe Biography.3gp"/>
          <p:cNvPicPr/>
          <p:nvPr/>
        </p:nvPicPr>
        <p:blipFill>
          <a:blip r:embed="rId2"/>
          <a:stretch/>
        </p:blipFill>
        <p:spPr>
          <a:xfrm>
            <a:off x="3276720" y="2286000"/>
            <a:ext cx="5452920" cy="4462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Edgar Allan Poe.jpg"/>
          <p:cNvPicPr/>
          <p:nvPr/>
        </p:nvPicPr>
        <p:blipFill>
          <a:blip r:embed="rId3"/>
          <a:stretch/>
        </p:blipFill>
        <p:spPr>
          <a:xfrm>
            <a:off x="228600" y="1487520"/>
            <a:ext cx="2633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3510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The Life of Edgar Allan Poe  and his wife Virginia Eliza Clemm Poe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78" name="HomeFolders:TeachersA-F:Angela_Roundy:Desktop:Poe and Frost  Poem PowerPoint:Poe and Frost Videos:Poe and Annabel Lee Life.3gp" descr="/Network/Servers/crms-1.leanderisd.org/HomeFolders/TeachersA-F/Angela_Roundy/Desktop/Poe and Frost  Poem PowerPoint/Poe and Frost Videos/Poe and Annabel Lee Life.3gp"/>
          <p:cNvPicPr/>
          <p:nvPr/>
        </p:nvPicPr>
        <p:blipFill>
          <a:blip r:embed="rId2"/>
          <a:stretch/>
        </p:blipFill>
        <p:spPr>
          <a:xfrm>
            <a:off x="4495680" y="1600200"/>
            <a:ext cx="4267440" cy="34909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649600"/>
            <a:ext cx="35100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Virginia is also known as “Annabel Lee”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Virginia and Edgar Allan were distant cousins and were wedded when Virginia was only thirteen. Edgar loved his “Annabel Lee” to her dying day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 “</a:t>
            </a: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he Raven”</a:t>
            </a:r>
            <a:br>
              <a:rPr sz="4600"/>
            </a:br>
            <a:r>
              <a:rPr b="0" lang="en-US" sz="1400" spc="-1" strike="noStrike">
                <a:solidFill>
                  <a:srgbClr val="ffffff"/>
                </a:solidFill>
                <a:latin typeface="Calisto MT"/>
              </a:rPr>
              <a:t>Edgar Allan Poe </a:t>
            </a:r>
            <a:endParaRPr b="0" lang="en-US" sz="1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5241240" y="5867280"/>
            <a:ext cx="32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The Raven Video Stor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HomeFolders:TeachersA-F:Angela_Roundy:Desktop:Poe and Frost  Poem PowerPoint:Poe and Frost Videos:The Raven Video.3gp" descr="/Network/Servers/crms-1.leanderisd.org/HomeFolders/TeachersA-F/Angela_Roundy/Desktop/Poe and Frost  Poem PowerPoint/Poe and Frost Videos/The Raven Video.3gp"/>
          <p:cNvPicPr/>
          <p:nvPr/>
        </p:nvPicPr>
        <p:blipFill>
          <a:blip r:embed="rId2"/>
          <a:stretch/>
        </p:blipFill>
        <p:spPr>
          <a:xfrm>
            <a:off x="4508640" y="2133720"/>
            <a:ext cx="4284360" cy="3504960"/>
          </a:xfrm>
          <a:prstGeom prst="rect">
            <a:avLst/>
          </a:prstGeom>
          <a:ln w="0">
            <a:noFill/>
          </a:ln>
        </p:spPr>
      </p:pic>
      <p:pic>
        <p:nvPicPr>
          <p:cNvPr id="383" name="HomeFolders:TeachersA-F:Angela_Roundy:Desktop:Poe and Frost  Poem PowerPoint:Poe and Frost Videos:The Raven_Edgar Allen Poe.3gp" descr="/Network/Servers/crms-1.leanderisd.org/HomeFolders/TeachersA-F/Angela_Roundy/Desktop/Poe and Frost  Poem PowerPoint/Poe and Frost Videos/The Raven_Edgar Allen Poe.3gp"/>
          <p:cNvPicPr/>
          <p:nvPr/>
        </p:nvPicPr>
        <p:blipFill>
          <a:blip r:embed="rId3"/>
          <a:stretch/>
        </p:blipFill>
        <p:spPr>
          <a:xfrm>
            <a:off x="228600" y="1487520"/>
            <a:ext cx="4113360" cy="33656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5054760"/>
            <a:ext cx="312408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Edgar Allan Poe “The Raven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 “</a:t>
            </a: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Annabel Lee”</a:t>
            </a:r>
            <a:br>
              <a:rPr sz="4600"/>
            </a:br>
            <a:r>
              <a:rPr b="0" lang="en-US" sz="1400" spc="-1" strike="noStrike">
                <a:solidFill>
                  <a:srgbClr val="ffffff"/>
                </a:solidFill>
                <a:latin typeface="Calisto MT"/>
              </a:rPr>
              <a:t>Edgar Allan Poe </a:t>
            </a:r>
            <a:endParaRPr b="0" lang="en-US" sz="1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352320" y="6019560"/>
            <a:ext cx="294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Annabel Lee” Video Storyboard Poem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7" name="HomeFolders:TeachersA-F:Angela_Roundy:Desktop:Poe and Frost  Poem PowerPoint:Poe and Frost Videos:Annabel Lee Video Poem.3gp" descr="/Network/Servers/crms-1.leanderisd.org/HomeFolders/TeachersA-F/Angela_Roundy/Desktop/Poe and Frost  Poem PowerPoint/Poe and Frost Videos/Annabel Lee Video Poem.3gp"/>
          <p:cNvPicPr/>
          <p:nvPr/>
        </p:nvPicPr>
        <p:blipFill>
          <a:blip r:embed="rId2"/>
          <a:stretch/>
        </p:blipFill>
        <p:spPr>
          <a:xfrm>
            <a:off x="2970360" y="1854360"/>
            <a:ext cx="5945040" cy="3735360"/>
          </a:xfrm>
          <a:prstGeom prst="rect">
            <a:avLst/>
          </a:prstGeom>
          <a:ln w="0">
            <a:noFill/>
          </a:ln>
        </p:spPr>
      </p:pic>
      <p:sp>
        <p:nvSpPr>
          <p:cNvPr id="388" name="TextBox 7"/>
          <p:cNvSpPr/>
          <p:nvPr/>
        </p:nvSpPr>
        <p:spPr>
          <a:xfrm>
            <a:off x="0" y="4307040"/>
            <a:ext cx="27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Virginia Eliza Clemm P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8" descr="Virgina Poe.jpg"/>
          <p:cNvPicPr/>
          <p:nvPr/>
        </p:nvPicPr>
        <p:blipFill>
          <a:blip r:embed="rId3"/>
          <a:stretch/>
        </p:blipFill>
        <p:spPr>
          <a:xfrm>
            <a:off x="228600" y="344520"/>
            <a:ext cx="2508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895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Robert Frost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457200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othing Gold Can Stay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Mending Wall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topping by Woods on a Snowy Evening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2" name="Picture 17" descr="Robert Frost.jpg"/>
          <p:cNvPicPr/>
          <p:nvPr/>
        </p:nvPicPr>
        <p:blipFill>
          <a:blip r:embed="rId2"/>
          <a:stretch/>
        </p:blipFill>
        <p:spPr>
          <a:xfrm>
            <a:off x="3429000" y="1123920"/>
            <a:ext cx="25718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 “</a:t>
            </a: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Nothing Gold Can Stay”</a:t>
            </a:r>
            <a:br>
              <a:rPr sz="4600"/>
            </a:br>
            <a:r>
              <a:rPr b="0" lang="en-US" sz="1400" spc="-1" strike="noStrike">
                <a:solidFill>
                  <a:srgbClr val="ffffff"/>
                </a:solidFill>
                <a:latin typeface="Calisto MT"/>
              </a:rPr>
              <a:t>Robert Frost</a:t>
            </a:r>
            <a:endParaRPr b="0" lang="en-US" sz="1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40880" y="2784240"/>
            <a:ext cx="37674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5" name="Content Placeholder 8" descr="Nothing Gold Can Stay.jpg"/>
          <p:cNvPicPr/>
          <p:nvPr/>
        </p:nvPicPr>
        <p:blipFill>
          <a:blip r:embed="rId2"/>
          <a:srcRect l="0" t="-7559" r="0" b="-7559"/>
          <a:stretch/>
        </p:blipFill>
        <p:spPr>
          <a:xfrm>
            <a:off x="457200" y="2784600"/>
            <a:ext cx="3767040" cy="3252600"/>
          </a:xfrm>
          <a:prstGeom prst="rect">
            <a:avLst/>
          </a:prstGeom>
          <a:ln w="0">
            <a:noFill/>
          </a:ln>
        </p:spPr>
      </p:pic>
      <p:pic>
        <p:nvPicPr>
          <p:cNvPr id="396" name="HomeFolders:TeachersA-F:Angela_Roundy:Desktop:Poe and Frost  Poem PowerPoint:Poe and Frost Videos:Nothing Gold Can Stay_Robert Frost.3gp" descr="/Network/Servers/crms-1.leanderisd.org/HomeFolders/TeachersA-F/Angela_Roundy/Desktop/Poe and Frost  Poem PowerPoint/Poe and Frost Videos/Nothing Gold Can Stay_Robert Frost.3gp"/>
          <p:cNvPicPr/>
          <p:nvPr/>
        </p:nvPicPr>
        <p:blipFill>
          <a:blip r:embed="rId3"/>
          <a:stretch/>
        </p:blipFill>
        <p:spPr>
          <a:xfrm>
            <a:off x="4567320" y="2362320"/>
            <a:ext cx="41194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 “</a:t>
            </a: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Mending Wall”</a:t>
            </a:r>
            <a:br>
              <a:rPr sz="4600"/>
            </a:br>
            <a:r>
              <a:rPr b="0" lang="en-US" sz="1400" spc="-1" strike="noStrike">
                <a:solidFill>
                  <a:srgbClr val="ffffff"/>
                </a:solidFill>
                <a:latin typeface="Calisto MT"/>
              </a:rPr>
              <a:t>Robert Frost</a:t>
            </a:r>
            <a:endParaRPr b="0" lang="en-US" sz="1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740880" y="2784240"/>
            <a:ext cx="37674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9" name="Content Placeholder 9" descr="the mending wall.jpg"/>
          <p:cNvPicPr/>
          <p:nvPr/>
        </p:nvPicPr>
        <p:blipFill>
          <a:blip r:embed="rId2"/>
          <a:srcRect l="-32133" t="0" r="-32133" b="0"/>
          <a:stretch/>
        </p:blipFill>
        <p:spPr>
          <a:xfrm>
            <a:off x="-609480" y="878040"/>
            <a:ext cx="3859200" cy="3617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WallBarn.jpg"/>
          <p:cNvPicPr/>
          <p:nvPr/>
        </p:nvPicPr>
        <p:blipFill>
          <a:blip r:embed="rId3"/>
          <a:stretch/>
        </p:blipFill>
        <p:spPr>
          <a:xfrm>
            <a:off x="4038480" y="1487520"/>
            <a:ext cx="4951440" cy="3522600"/>
          </a:xfrm>
          <a:prstGeom prst="rect">
            <a:avLst/>
          </a:prstGeom>
          <a:ln w="0">
            <a:noFill/>
          </a:ln>
        </p:spPr>
      </p:pic>
      <p:pic>
        <p:nvPicPr>
          <p:cNvPr id="401" name="HomeFolders:TeachersA-F:Angela_Roundy:Desktop:Poe and Frost  Poem PowerPoint:Poe and Frost Videos:Mending Wall_Robert Frost.3gp" descr="/Network/Servers/crms-1.leanderisd.org/HomeFolders/TeachersA-F/Angela_Roundy/Desktop/Poe and Frost  Poem PowerPoint/Poe and Frost Videos/Mending Wall_Robert Frost.3gp"/>
          <p:cNvPicPr/>
          <p:nvPr/>
        </p:nvPicPr>
        <p:blipFill>
          <a:blip r:embed="rId4"/>
          <a:stretch/>
        </p:blipFill>
        <p:spPr>
          <a:xfrm>
            <a:off x="1671480" y="4495680"/>
            <a:ext cx="28371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 “</a:t>
            </a: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Stopping by Woods on a Snowy Evening”</a:t>
            </a:r>
            <a:br>
              <a:rPr sz="4600"/>
            </a:br>
            <a:r>
              <a:rPr b="0" lang="en-US" sz="1400" spc="-1" strike="noStrike">
                <a:solidFill>
                  <a:srgbClr val="ffffff"/>
                </a:solidFill>
                <a:latin typeface="Calisto MT"/>
              </a:rPr>
              <a:t>Robert Frost</a:t>
            </a:r>
            <a:endParaRPr b="0" lang="en-US" sz="1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740880" y="2784240"/>
            <a:ext cx="37674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4" name="Content Placeholder 8" descr="Snow.jpg"/>
          <p:cNvPicPr/>
          <p:nvPr/>
        </p:nvPicPr>
        <p:blipFill>
          <a:blip r:embed="rId2"/>
          <a:srcRect l="-15055" t="0" r="-15055" b="0"/>
          <a:stretch/>
        </p:blipFill>
        <p:spPr>
          <a:xfrm>
            <a:off x="4890960" y="2057400"/>
            <a:ext cx="4438800" cy="3833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Snowy evening.jpg"/>
          <p:cNvPicPr/>
          <p:nvPr/>
        </p:nvPicPr>
        <p:blipFill>
          <a:blip r:embed="rId3"/>
          <a:stretch/>
        </p:blipFill>
        <p:spPr>
          <a:xfrm>
            <a:off x="0" y="2057400"/>
            <a:ext cx="4013280" cy="2673360"/>
          </a:xfrm>
          <a:prstGeom prst="rect">
            <a:avLst/>
          </a:prstGeom>
          <a:ln w="0">
            <a:noFill/>
          </a:ln>
        </p:spPr>
      </p:pic>
      <p:pic>
        <p:nvPicPr>
          <p:cNvPr id="406" name="HomeFolders:TeachersA-F:Angela_Roundy:Desktop:Poe and Frost  Poem PowerPoint:Poe and Frost Videos:Stopping by Woods on a Snowy Evening_Robert Frost.3gp" descr="/Network/Servers/crms-1.leanderisd.org/HomeFolders/TeachersA-F/Angela_Roundy/Desktop/Poe and Frost  Poem PowerPoint/Poe and Frost Videos/Stopping by Woods on a Snowy Evening_Robert Frost.3gp"/>
          <p:cNvPicPr/>
          <p:nvPr/>
        </p:nvPicPr>
        <p:blipFill>
          <a:blip r:embed="rId4"/>
          <a:stretch/>
        </p:blipFill>
        <p:spPr>
          <a:xfrm>
            <a:off x="2540160" y="411480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21:54:26Z</dcterms:created>
  <dc:creator>Leander ISD</dc:creator>
  <dc:description/>
  <dc:language>en-US</dc:language>
  <cp:lastModifiedBy>Leander ISD</cp:lastModifiedBy>
  <dcterms:modified xsi:type="dcterms:W3CDTF">2009-04-30T18:31:07Z</dcterms:modified>
  <cp:revision>20</cp:revision>
  <dc:subject/>
  <dc:title>Poetry Lesson</dc:title>
</cp:coreProperties>
</file>